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F53E7-E813-466C-81AA-7581B07EDCD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88059-3726-4899-B278-1E82718ECF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FF78-D68E-4DE5-BBFB-0CD2FCBC7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9417-7B65-468A-962F-357124C67B4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8231F-DB04-4F98-B433-4430C2D430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312B7-8F85-4D70-8967-D472FB0714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CB5F0-1751-4564-8E62-0EC556FD1D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95BB-9D5B-47EA-829B-EA634FF1E4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2447-B7F3-430B-9609-FF197F5EF9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B1190-6D92-4BD3-ABA0-64BEBA69B0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88048-6AE3-4FF7-87AD-A9EEC2D3D8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3EB99-8DA7-497A-811E-26F4A1FE22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354EE-787C-4A0F-9295-E66CDB7C08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6D4ED-EFD9-46E5-984F-D93977F29C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5238-3CA2-409F-9B3E-57852EF84D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7695-0089-4AEC-8837-331DD4268A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9FFA-7597-4562-ABA9-FD5BB6A3A2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5585B-34CF-428A-9204-6D2592CBE0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914CF-2AEE-491F-BCC6-519547C42F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17397-BD1E-45B0-9427-0344FB47A1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12D6-5416-467F-A36C-44E3196E93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B812-8FEE-4930-A615-362E93C5A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3FA6-79D8-4242-82BC-26D5FBB7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BEF6-F553-4940-B626-63ECEC4AC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40D76B7-E7C7-434E-8CA4-972E40BF2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25480F5-F25E-41AC-8FF8-6BDB28871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751D05-4E27-4ED1-832C-5FBD970E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D6CB24D-E092-4498-A8C5-796DAC21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6D016F-D73F-48C5-AD21-4DDEDFDBA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85B449-FC05-46C9-B895-C7A92C5A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AABBA76-FD19-4806-8506-A01F4A4C7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A13F169-02DB-44DD-9543-1148ECC81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E60EA5-40B5-4FA0-99CE-D0CBE7204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7579D-DE44-40C6-8A9E-669DA5E7F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3895-B8D1-471E-BE4F-66572D54E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2C4C0-003C-487F-8F27-00CD0865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FFC708-A20B-4EE0-BA9E-45447E28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CFB555-47CE-41A5-9901-9502F5ADE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0B5F5-A4E1-4989-9D35-1449F132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2201AD-CD8A-410E-8434-BCD437FF6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A4C836-88A3-400D-B20D-AEA8A2F3B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538BB-D369-40C2-A6D5-17F5CB6C5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D8C058-F1D7-40ED-B3E8-F775E807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FD47B1-00AF-4BB6-876B-0BAA692C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C295E2-AF5F-45DA-B349-D847FD5BA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2372-E524-4817-A5DF-AD8939134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13982-E5C4-48AC-8851-0A7E8EF3B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290930-EAC1-48D3-9AE1-68F3C2F8E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58F600-41F2-4C56-8C6F-AFE65E020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1D85CB-40B5-4FE6-903F-AD85C637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D25005-ED0E-4B1C-991A-95E36C592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7618CC-6D46-4D17-AF24-0433FFCDA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343C8F-9AB0-4C39-B72F-EF672F3EF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3529B-EEDF-45FE-9C46-394CC6EF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660C15-E768-4D10-A4EF-4ACBA6D0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01B048-07DC-46EE-B9C1-182EEA88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E1353-DD61-4D4F-BEB5-C12A22B7A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1D9F9D-760F-4604-A02F-DB273D1D2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8BE37-3AE3-49CF-A504-B927256D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72539C-7B05-4611-8F94-FF5B829D4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D7800-72E9-48E5-B8BD-32EF665FB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0C0E-479B-4DA4-B3F7-A2C7AC6A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B4FEE-38DD-472C-B205-C73476421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AE85-D64F-47ED-B0BA-FA0EC1B6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441B-1B82-4276-9467-067DFCF88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0D7A-91CD-4973-9582-29EB7B8A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2325-DAFE-403B-A29B-5ECA3410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CE6A-EC7A-4025-8878-48CDB3389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63F4-7936-42CB-991C-E4BEA54C5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7046F-2410-499F-B8D8-01E3B07E7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3B6A-9FAD-4354-8047-382E0A1F4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5DA8A-3F1A-4585-BF01-88C9BEF1F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9703B2-CFEF-4E83-99EA-26E3A80E7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AF3C0-E2D8-483B-92B5-2009F4BE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D64D1-9211-4A12-BFB7-3DB7004FB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E7479-3079-46A1-A5FB-D4B5B845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CD116-D67A-4122-B4A8-EF38AFBA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49E2-672E-4E14-91ED-C955D194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20D53-381D-4B41-B8BA-6A6E57B03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012BFC-5341-47BC-A2E1-9D7F624C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71A6C9-82CD-43E5-8422-F7960F8F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E2823-32E4-4301-8785-6F743A34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D39AE-2C2C-466A-9F13-A53BA377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8D7C1-6340-4C4F-B192-4A12D3552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4E0DD-5EC3-4E7C-85CE-B9B586AB0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DB736D-F969-4BCE-9EC8-2E770ECAF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6ABA18-CEA2-4343-A5E7-17C17B2C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0B328C-BDCA-42BE-B075-4D5B33ED9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8311-E53C-425A-91C4-A5BAD4E2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398710-6C87-4832-A2FE-0370EA57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99C4A2-0A1D-4DF7-88B3-66DFBC96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6E5D98-A57E-4C7C-850A-5DB7D823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C86E08-2AC8-452F-8CE1-E7CE94D9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0EA2C4-1914-43B3-B5BB-B0A17E48C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598D73-923E-47BE-94B9-FE45C7200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70E1F6-021D-4C9A-BDC2-1B24B86F8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F98204-4F6A-4A73-8B01-FA744373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075D7D-1A5E-4093-9E7C-3614C807C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0637956-3425-476D-AC62-9A5D45719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F974-E95D-4009-8A17-FA620CB61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4EB7B2B-61D5-4165-A435-43BAEB5AD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F6E18D-0FB4-4D23-901F-2FFB7B7A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7100A3-E8FC-452A-B994-2A23D2EB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5E702C-AD85-43C9-9223-3ACAE019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D5558D-9721-4795-9502-8A5B3D58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A7C700E-5C71-4C34-9FA3-2DDCD308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39C50B-460D-4AD7-AD01-1AA7CF6F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0836751-D5A8-4BF5-98B7-9362DC41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56C256-5B4E-4935-BD8E-31E62D08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3F5229-341A-422F-B520-69DB47993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7C9D-4D23-4C81-ADFD-CAFC4122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1588C0-BF67-4E08-B8D5-1B019537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A8B312-2637-4367-B636-0E472C971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1B374-094D-4BE4-A760-F5E02EB7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5D05B-818C-4577-B8AD-C75F13269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DE60B0-B564-4706-92F6-E21FCA53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B4735-9801-42D7-9DF8-CFA637877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52D1CC-68BB-4ECD-AB7C-5F97611C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27B5A-D5CD-4D2E-A230-D6D343AA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1DD6E-6AC7-41BA-9485-069E72B5F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66EB80-A312-4A68-9C2F-F948242C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2408-407D-4F7F-80AB-8A1C77FE5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78C161-363E-416C-A83E-A10AF871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68C71-3982-4720-A448-B1BE1C53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B6C05-AFED-4F62-B1DD-DC047B765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1EFB37-69DD-4701-904B-F97B1E99C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A1499-AAC4-4ACE-BD79-E0AB2567F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A6ED46-8707-4D81-8F3E-DD6D8C40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00399B-DC27-45BC-A614-A27A9448B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C1C0C0-293B-4EE4-8034-C83A551B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8B76D-7283-4C31-AE84-3B8CA2492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DAC94-1616-4842-9369-0CE4B1A1A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1434-11DF-4F1A-87A4-782D45CA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F0FCA-DBC9-4398-9B4F-B9E3721FC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1F6CD7-5E50-4704-B48A-A9B2A459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D748E-E050-4EBB-AF63-6183D32B7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0A4E72-59C3-4538-827D-84FD3271B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997FE-BD41-4CAD-9FC0-3266F7BB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C19E4-BCC8-42FA-8220-D1D5AEE0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BF9542-B4E9-451A-B282-8A048F80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7C147-BB09-4BA5-AACF-7FCD6545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4F187-A054-4804-AE6B-CDA521793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504EEA-F115-4030-BF4E-FF014F1D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0DE8-D343-46C1-BDE7-90F4CDDB5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B2D44-CAC9-4C33-8EBA-ED28F820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4FA0B-C13D-4F8D-ACDE-519D41A4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BEE4A0-36E4-4577-9FD3-B481DC3EE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9CE84A-0364-47B3-A4E3-216779B2E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546DC-430F-4808-8566-CC1D8F45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CFFEA7-2550-4259-8315-2F3679C27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E8B22-9DD1-4D54-9EF2-87C54BB15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EA08B0-5110-42BE-BD35-25BAE6A9A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B51A9D-CE58-49D4-B02B-8BDA5EC9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B84826E-C3A7-4C35-BF79-4491382F0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3A24-5ADC-4852-830F-D95942145E15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C8B945EB-B5DA-4220-8AA9-BE8531A3B2AE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08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2B66-4EDB-4B3E-BFFE-C356B9DCDF50}" type="slidenum">
              <a:rPr b="1" lang="en-US" sz="12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E4987-EF7C-45F7-9007-3D7B5D38DEA9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472257E4-F6DA-4734-A8ED-C399F1EE71C4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08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30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893C-5813-4CF8-B1B2-763F93AF0F05}" type="slidenum">
              <a:rPr b="1" lang="en-US" sz="12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08A63-2CA3-442B-BC9B-5B85AFF6F6BF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09311790-3736-4B5A-9F4C-2898157FC43D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08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D0BE-FE1C-4830-9142-9E9FB6059E5A}" type="slidenum">
              <a:rPr b="1" lang="en-US" sz="12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5f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9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0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dc3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bddc3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8212-555C-4318-B449-42D68DCFB949}" type="datetime">
              <a:rPr b="0" lang="en-US" sz="2000" spc="-1" strike="noStrike">
                <a:solidFill>
                  <a:srgbClr val="ffffff"/>
                </a:solidFill>
                <a:latin typeface="Tw Cen MT"/>
              </a:rPr>
              <a:t>07/28/26</a:t>
            </a:fld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 </a:t>
            </a:r>
            <a:fld id="{EC5F7CC4-A890-43DD-BE02-FA9E827B2465}" type="datetime10">
              <a:rPr b="0" lang="en-US" sz="2000" spc="-1" strike="noStrike">
                <a:solidFill>
                  <a:srgbClr val="ffffff"/>
                </a:solidFill>
                <a:latin typeface="Tw Cen MT"/>
              </a:rPr>
              <a:t>08:13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bddc3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B6157-E8AF-4B22-8285-C7F15BC710B4}" type="slidenum">
              <a:rPr b="1" lang="en-US" sz="1400" spc="-1" strike="noStrike">
                <a:solidFill>
                  <a:srgbClr val="ebddc3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C2EF3-C0C9-40A7-B7D3-6AA6F8EEDE58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1EE51F29-F55F-463D-BEAD-364AEC34BF62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08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A992F-D099-428F-8F63-7483C1A0A64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4183C-3416-44C0-B2D7-7A4942230249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5F3210D3-11F4-444B-A36D-C56A19347157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08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9199-484D-454C-8AE3-17079DA739D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E5ED-4FA7-4BD5-9177-39E6168DB1EB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B21CB5CB-A72E-4A59-93D9-3395A6746BC4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08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AB7C-DB19-4590-AC49-52873548F56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2B73-ABED-43E4-AE5D-98C94D38D5EB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0DDF7441-387C-49B1-A370-C980528852CA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08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F60E-4D8B-4238-B6E8-8E5A05F58098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A415-568F-4E1E-A445-AEBBD2BB4D8B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BC5B58CB-A2A5-4AA9-BC5F-0538DE4341A3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08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51C2-E251-43B7-BDC1-6E5902C09DAF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DCC2-0FE8-4542-BB2E-FA560312D47F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F308EC73-C02D-4522-901F-92CBD2DBBF3C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08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A678-E376-465B-A9D3-42046EEEDB1C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7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8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9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0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87F9-7FA6-4A8A-90A7-319C95D1F567}" type="datetime">
              <a:rPr b="0" lang="en-US" sz="1400" spc="-1" strike="noStrike">
                <a:solidFill>
                  <a:srgbClr val="775f55"/>
                </a:solidFill>
                <a:latin typeface="Tw Cen MT"/>
              </a:rPr>
              <a:t>07/28/26</a:t>
            </a:fld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 </a:t>
            </a:r>
            <a:fld id="{AFAFE8E1-104A-4E49-B0E9-B4ED80EBC1E4}" type="datetime10">
              <a:rPr b="0" lang="en-US" sz="1400" spc="-1" strike="noStrike">
                <a:solidFill>
                  <a:srgbClr val="775f55"/>
                </a:solidFill>
                <a:latin typeface="Tw Cen MT"/>
              </a:rPr>
              <a:t>08:13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4DCB9-E6D3-414A-9773-B1C84E7132DA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2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Rectangle 1"/>
          <p:cNvGrpSpPr/>
          <p:nvPr/>
        </p:nvGrpSpPr>
        <p:grpSpPr>
          <a:xfrm>
            <a:off x="298440" y="-42840"/>
            <a:ext cx="8852040" cy="3084480"/>
            <a:chOff x="298440" y="-42840"/>
            <a:chExt cx="8852040" cy="3084480"/>
          </a:xfrm>
        </p:grpSpPr>
        <p:pic>
          <p:nvPicPr>
            <p:cNvPr id="490" name="Rectangle 1" descr=""/>
            <p:cNvPicPr/>
            <p:nvPr/>
          </p:nvPicPr>
          <p:blipFill>
            <a:blip r:embed="rId1"/>
            <a:stretch/>
          </p:blipFill>
          <p:spPr>
            <a:xfrm>
              <a:off x="298440" y="-42840"/>
              <a:ext cx="885204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/>
            <p:nvPr/>
          </p:nvSpPr>
          <p:spPr>
            <a:xfrm>
              <a:off x="754200" y="384480"/>
              <a:ext cx="7940520" cy="22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ebddc3"/>
                  </a:solidFill>
                  <a:latin typeface="Calibri"/>
                </a:rPr>
                <a:t>Федеральное государственное бюджетное образовательное учреждение высшего образования Донбасская аграрная академия.</a:t>
              </a:r>
              <a:br>
                <a:rPr sz="1400"/>
              </a:br>
              <a:br>
                <a:rPr sz="3600"/>
              </a:br>
              <a:br>
                <a:rPr sz="3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92" name="Picture 8" descr="C:\Documents and Settings\Mist.DEB-6015B618F20\My Documents\My Pictures\Microsoft Clip Organizer\j0387196.jpg"/>
          <p:cNvPicPr/>
          <p:nvPr/>
        </p:nvPicPr>
        <p:blipFill>
          <a:blip r:embed="rId2"/>
          <a:stretch/>
        </p:blipFill>
        <p:spPr>
          <a:xfrm>
            <a:off x="3456000" y="1779480"/>
            <a:ext cx="6084720" cy="5475240"/>
          </a:xfrm>
          <a:prstGeom prst="rect">
            <a:avLst/>
          </a:prstGeom>
          <a:ln w="0">
            <a:noFill/>
          </a:ln>
        </p:spPr>
      </p:pic>
      <p:sp>
        <p:nvSpPr>
          <p:cNvPr id="493" name="Footer Placeholder 9"/>
          <p:cNvSpPr/>
          <p:nvPr/>
        </p:nvSpPr>
        <p:spPr>
          <a:xfrm>
            <a:off x="208584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"/>
          <p:cNvGraphicFramePr/>
          <p:nvPr/>
        </p:nvGraphicFramePr>
        <p:xfrm>
          <a:off x="1981080" y="1981080"/>
          <a:ext cx="5334120" cy="2743200"/>
        </p:xfrm>
        <a:graphic>
          <a:graphicData uri="http://schemas.openxmlformats.org/drawingml/2006/table">
            <a:tbl>
              <a:tblPr/>
              <a:tblGrid>
                <a:gridCol w="5334120"/>
              </a:tblGrid>
              <a:tr h="2743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f2f2f2"/>
                          </a:solidFill>
                          <a:latin typeface="Bookman Old Style"/>
                        </a:rPr>
                        <a:t>МЕЖДУНАРОДНОЕ ПРАВ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5" name="Text Box 71"/>
          <p:cNvSpPr/>
          <p:nvPr/>
        </p:nvSpPr>
        <p:spPr>
          <a:xfrm>
            <a:off x="3733920" y="6095880"/>
            <a:ext cx="1447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еевка - 20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Shap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2D90-EA94-4FBD-850B-05500780009E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Рисунок 3" descr="17186183_145930146.pdf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97B11-8D4E-4D3D-9E97-DA6D7BF3FEA6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5f55"/>
                </a:solidFill>
                <a:latin typeface="Calibri"/>
                <a:ea typeface="宋体"/>
              </a:rPr>
              <a:t>Дипломатическое и консульское право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28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29" name="TextBox 7"/>
          <p:cNvSpPr/>
          <p:nvPr/>
        </p:nvSpPr>
        <p:spPr>
          <a:xfrm>
            <a:off x="533520" y="762120"/>
            <a:ext cx="830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яя политика и дипломатия. Понятие и источники дипломатического и консульского права. Органов внешних сношений. Муниципальные власти иностранных отношений. Иностранных органов внешних сно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пломатические представительства. Процедура для формирования и функции diplomatič этих отделений. Процедура назначения и отзыва руководителя diplomatič-tion представительства. Классы и ряды дипломатических представителей. Структура и персонал дипломатических миссий. Дипломатический корпу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илегии и иммунитеты дипломатического представительства. Личные привилегии и иммунитеты дипломатических агентов и сотрудников. Привилегии и иммунитеты главы дипломатического представительства. В обязанности дипломатического агента по отношению к государств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пециальная миссия. Порядок назначения, функций и привилег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сульские представительства. Понятие и функции консульских институтов. Виды консульских офисов и классы консулов. Консульский корпус. Консульских привилегий и иммунит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Shap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4E498-577B-49E8-8148-25474E2E6579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Рисунок 5" descr="img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79B0-7A45-43EB-BD2A-0DBDF067900D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5f55"/>
                </a:solidFill>
                <a:latin typeface="Calibri"/>
                <a:ea typeface="宋体"/>
              </a:rPr>
              <a:t>Территория в международном праве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34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35" name="TextBox 7"/>
          <p:cNvSpPr/>
          <p:nvPr/>
        </p:nvSpPr>
        <p:spPr>
          <a:xfrm>
            <a:off x="533520" y="762120"/>
            <a:ext cx="830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тически однородные типы территорий. Концепция и структура государственной территории. Государственные границы. Делимитации государственной границы. Делимитации территорий государств-членов. Способы изменения государственной территор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народное морское право. Внутренних и территориальных водах. Международно-правового режима открытого моря. Экономическая зона. Континентального шельфа. Правовой режим международных каналов и проливов. Международных рек. Режим работы суда международной реки. Международный режим Антарктики. Правовой режим Аркти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вой режим воздушного пространства и космического пространства. Сотрудничество в значительной степени извлекли от освоения космического пространства. Статус астронав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Shap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2B5DF-AAE8-4A51-997E-CE30A849C567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Рисунок 3" descr="27206857_396915105.pdf-3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EC632-8B21-4A79-B921-DE5CB695D810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5f55"/>
                </a:solidFill>
                <a:latin typeface="Calibri"/>
                <a:ea typeface="宋体"/>
              </a:rPr>
              <a:t>Международное гуманитарное право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40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41" name="TextBox 7"/>
          <p:cNvSpPr/>
          <p:nvPr/>
        </p:nvSpPr>
        <p:spPr>
          <a:xfrm>
            <a:off x="533520" y="762120"/>
            <a:ext cx="8305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ели и задачи международного правового регулирования вооруженных конфликтов. Международно-правовые акты по вопросам вооруженных конфли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чало войны и его правовые последствия. Театр военных действий. Театр военных действ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ники вооруженных конфликтов. Правовой статус комбатант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ства и методы ведения войны. Запрещенные и запрещенных средств и методов ведения вой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народная правовая защита жертв войны. Понятие жертв войны. Субсидии, правовая защита раненых пациентов. Международная правовая защита. Международная правовая защита гражданского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йтралитет в войне. Постоянный нейтралитет. Нейтралитет в этой войне. Договорные нейтралите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концу войны и его правовые последствия. Перемирие и его типы. Капитуляция. Безоговорочной капитуля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ловная ответственность физических лиц за преступления против мира и нации экономики, за военные преступления. Главных военных преступников. Непосредственных участников международных преступлений. Международные военные трибунал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Shap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6B62-033A-494D-88F6-516707ECD99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Рисунок 5" descr="img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422D-14C1-4C07-AE9D-CAD1EF1CF902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75f55"/>
                </a:solidFill>
                <a:latin typeface="Calibri"/>
                <a:ea typeface="宋体"/>
              </a:rPr>
              <a:t>Международное сотрудничество в борьбе с преступностью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46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47" name="TextBox 7"/>
          <p:cNvSpPr/>
          <p:nvPr/>
        </p:nvSpPr>
        <p:spPr>
          <a:xfrm>
            <a:off x="533520" y="685800"/>
            <a:ext cx="83055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кторы, лежащие в основе международного сотрудничества в борьбе с преступностью. Основные юридические формы сотрудничества между государствами-членами в этой обла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ятие и виды международных уголовных преступлений. Некоторые типы преступлений международного характера. Рабство, работорговля и другие формы торговли людьми. Незаконное производство и оборот наркотических средств и психотропных веществ. Пиратство на море (морской разбой). Незаконный захват воздушного судна или другими незаконными актами, направленными против безопасности гражданской авиации. Террориз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ридическая помощь по уголовным делам. Доставка (выдача) преступников. Правовые основания для экстрадиции. Вопросы экстради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ьба с преступностью и международной организации. Генеральной Ассамблеи ООН. Экономический и Социальный Совет. Конгрессы Организации Объединенных Наций по предупреждению преступности и обращению с правонарушителями. ООН, Комитет по предупреждению преступности нищеты и борьбы с ней. специализированные учреждения Организации Объединенных Нац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уголовной полиции Интерпол Международная. Взаимодействие Интерпола с полицейскими службами в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Shap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0E04-F428-464D-A4B3-4388C56BAEB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Рисунок 6" descr="37119818_131738404.pdf-14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8" descr="C:\Documents and Settings\Mist.DEB-6015B618F20\My Documents\My Pictures\Microsoft Clip Organizer\j0387196.jpg"/>
          <p:cNvPicPr/>
          <p:nvPr/>
        </p:nvPicPr>
        <p:blipFill>
          <a:blip r:embed="rId1">
            <a:lum contrast="6000"/>
          </a:blip>
          <a:srcRect l="0" t="-7905" r="8801" b="-3314"/>
          <a:stretch/>
        </p:blipFill>
        <p:spPr>
          <a:xfrm>
            <a:off x="3459240" y="990720"/>
            <a:ext cx="5684760" cy="6024600"/>
          </a:xfrm>
          <a:prstGeom prst="rect">
            <a:avLst/>
          </a:prstGeom>
          <a:ln w="0">
            <a:noFill/>
          </a:ln>
        </p:spPr>
      </p:pic>
      <p:pic>
        <p:nvPicPr>
          <p:cNvPr id="551" name="Рисунок 4" descr="slide-0.jpg"/>
          <p:cNvPicPr/>
          <p:nvPr/>
        </p:nvPicPr>
        <p:blipFill>
          <a:blip r:embed="rId2"/>
          <a:stretch/>
        </p:blipFill>
        <p:spPr>
          <a:xfrm>
            <a:off x="1523880" y="762120"/>
            <a:ext cx="6242040" cy="467496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Shap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75C3-0FE3-44BF-A5D3-EDD69DB1BF8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75f55"/>
                </a:solidFill>
                <a:latin typeface="Calibri"/>
                <a:ea typeface="宋体"/>
              </a:rPr>
              <a:t>Содержание учебного материала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宋体"/>
              </a:rPr>
              <a:t>Модуль 1 Теоретические принципы международного права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宋体"/>
              </a:rPr>
              <a:t>Тема 1. Понятие, сущность и системы международного публичного права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宋体"/>
              </a:rPr>
              <a:t>Тема 2. Субъекты международного права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宋体"/>
              </a:rPr>
              <a:t>Тема 3. Право международных договоров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宋体"/>
              </a:rPr>
              <a:t>Тема 4. Право международных организаций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宋体"/>
              </a:rPr>
              <a:t>Модуль 2 Специальная часть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宋体"/>
              </a:rPr>
              <a:t>Тема 5. Дипломатическое и консульское право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宋体"/>
              </a:rPr>
              <a:t>Тема 6. Территория в международном праве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宋体"/>
              </a:rPr>
              <a:t>Тема 7. Международное гуманитарное право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  <a:ea typeface="宋体"/>
              </a:rPr>
              <a:t>Тема 8. Международное сотрудничество в борьбе с преступностью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99" name="Рисунок 4" descr="mezhdunarodnie_otnosheniya.jpg"/>
          <p:cNvPicPr/>
          <p:nvPr/>
        </p:nvPicPr>
        <p:blipFill>
          <a:blip r:embed="rId1"/>
          <a:stretch/>
        </p:blipFill>
        <p:spPr>
          <a:xfrm>
            <a:off x="6778800" y="2968560"/>
            <a:ext cx="2145960" cy="12747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722D-B7B2-47F7-B451-639E61C48221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5f55"/>
                </a:solidFill>
                <a:latin typeface="Calibri"/>
              </a:rPr>
              <a:t>Понятие, сущность и системы международного публичного права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02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03" name="TextBox 7"/>
          <p:cNvSpPr/>
          <p:nvPr/>
        </p:nvSpPr>
        <p:spPr>
          <a:xfrm>
            <a:off x="533520" y="1295280"/>
            <a:ext cx="8305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епция международного права, ее особенности и социального характера. Этапы формирования современного международного права. Особенности международного права. В системе международного права. Источники международного права, их классификации и общие характеристик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народно-правовые отношения. Особенности норм международного права, порядок их создания и ис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епция значения международного права и в рамках закона. Отношение международного публичного и частного международного пр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ные принципы международного права. Классификация основных принципов половины. Принципы Устава Организации Объединенных Наций. Основные принципы мира и международной безопасности и семьи. Основные принципы международного сотрудничества. Основные принципы защиты прав народов, Наций и людьми. Роль принципов международного права в развитие международных отношений и международного пра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Shap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CFB0-4EFC-4F2B-B475-4765B0DCB8F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宋体"/>
              </a:rPr>
              <a:t>Международное право – это совокупность юридических принципов и норм, регулирующих отношения между государствами и другими субъектами международного права.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宋体"/>
              </a:rPr>
              <a:t>Система международного права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1896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1295280" y="2286000"/>
          <a:ext cx="6629400" cy="426708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  <a:gridCol w="2209680"/>
              </a:tblGrid>
              <a:tr h="14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ждународное воздушное пра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Дипломатическое и консульское пра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Международное морское пра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14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дународное гуманитарное пра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дународное уголовное пра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дународное право охраны окружающей сред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42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о международных договор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о международных организац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аво прав челове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</p:spTree>
  </p:cSld>
  <p:transition spd="med" advTm="10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DC0A-CFC7-4C0D-B04D-ADF4963AE372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09120" y="15192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5f55"/>
                </a:solidFill>
                <a:latin typeface="Calibri"/>
              </a:rPr>
              <a:t>Субъекты международного права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09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10" name="TextBox 7"/>
          <p:cNvSpPr/>
          <p:nvPr/>
        </p:nvSpPr>
        <p:spPr>
          <a:xfrm>
            <a:off x="533520" y="1295280"/>
            <a:ext cx="8305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ятие и виды субъектов международного пра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о является основным субъектом международного права. Государственный суверенитет: понятие и признаки. Территория в международном праве. На территории, которая находится под суверенитетом государства. Международные территор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обенности международной правосубъектности государства и народы, которые борются за независимость. Международная правосубъектность юридических и физических лиц. Международные организации: концепции, типы и их роль в современных международных отношениях. Личность международных организац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народное юридическое признание: концепция и типы. Способы принятия. Между национальными правопреемства государств. Причины возникновения правопреемст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hap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AAA7-E08D-4856-99DA-34C5C4913CE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91440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  <a:ea typeface="宋体"/>
              </a:rPr>
              <a:t>Субъекты международного права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1523880" y="1752480"/>
          <a:ext cx="6172200" cy="3733920"/>
        </p:xfrm>
        <a:graphic>
          <a:graphicData uri="http://schemas.openxmlformats.org/drawingml/2006/table">
            <a:tbl>
              <a:tblPr/>
              <a:tblGrid>
                <a:gridCol w="3086280"/>
                <a:gridCol w="3085920"/>
              </a:tblGrid>
              <a:tr h="124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уверенные (первич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есуверенные (производны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4b6d2"/>
                    </a:solidFill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удар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дународные орган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5ee"/>
                    </a:solidFill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рющиеся за независимость н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осударствоподобные 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ff3f7"/>
                    </a:solidFill>
                  </a:tcPr>
                </a:tc>
              </a:tr>
            </a:tbl>
          </a:graphicData>
        </a:graphic>
      </p:graphicFrame>
    </p:spTree>
  </p:cSld>
  <p:transition spd="med" advTm="10000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5C1A-12AB-4CA6-BF5A-25805D988524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5f55"/>
                </a:solidFill>
                <a:latin typeface="Calibri"/>
              </a:rPr>
              <a:t>Право международных договоров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16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17" name="TextBox 7"/>
          <p:cNvSpPr/>
          <p:nvPr/>
        </p:nvSpPr>
        <p:spPr>
          <a:xfrm>
            <a:off x="533520" y="762120"/>
            <a:ext cx="83055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во договоров, ее источники и кодификация. Заключать договоры. Стороны договора. Право на участие в соглашении. Типы договоров. Контракт и третьим государств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лючение соглашений. Порядок заключения договоров. Полномочий. Стадии контрактов. Установления аутентичности текста. Подписание соглашения. Ратификация Договора. Утверждение соглашения. Присоединение к договорам секретариат. Предло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 и структура договоров. Язык контрак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ействие договоров. Принцип «соглашения должны осуществляться.» Внутригосударственный закон и присоединения к международным договорам. Действие договора во времени и пространстве. Расширение, реконструкция контрак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кование Соглашения. Аутентичное толкование. Международное толкование. Внутригосударственное толкование. Основные принципы толк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я действительности и недействительности договора. Последствия недействительности договор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епции и методы завершения. Срок действия договоров - Секретариата. Исполнение контракта. О денонсации Соглашения. Отмена международных соглашений. Прекращение существования государства или изменять его статус. Коренное изменение обстоятельств. Приостановление действия соглашения. Влияние войны на догово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Shape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70B5E-4435-4BE9-829E-35ADD072D9C7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Рисунок 5" descr="img15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Shape 5"/>
          <p:cNvSpPr/>
          <p:nvPr/>
        </p:nvSpPr>
        <p:spPr>
          <a:xfrm rot="5400000">
            <a:off x="5988960" y="14436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E9C80-754D-4F9F-9146-F173A2010418}" type="slidenum">
              <a:rPr b="1" lang="en-US" sz="11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15364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775f55"/>
                </a:solidFill>
                <a:latin typeface="Calibri"/>
              </a:rPr>
              <a:t>Право международных организаций</a:t>
            </a:r>
            <a:endParaRPr b="0" lang="en-US" sz="18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522" name="Picture 21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523" name="TextBox 7"/>
          <p:cNvSpPr/>
          <p:nvPr/>
        </p:nvSpPr>
        <p:spPr>
          <a:xfrm>
            <a:off x="533520" y="762120"/>
            <a:ext cx="8305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нятие и источники права международных организаций. Классификация inte Аль. Процедура для формирования и прекращения деятельности международных организаций. Компетенция, функции и полномочия международных организаци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ленство в международных организациях. Органы международной организации, порядок их формирования, компетенция и деятельн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Объединенных Наций: цели и принципы деятельности. История создания Организации Объединенных Наций. Системы ООН. Членство в Организации Объединенных Наций. Основные органы Организации Объединенных Наций. Учреждения ООН-Ваня бы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региональных, региональных и международных организаций. Международные Орган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21:40:00Z</dcterms:created>
  <dc:creator/>
  <dc:description/>
  <dc:language>en-US</dc:language>
  <cp:lastModifiedBy/>
  <dcterms:modified xsi:type="dcterms:W3CDTF">2023-08-22T10:45:42Z</dcterms:modified>
  <cp:revision>1</cp:revision>
  <dc:subject/>
  <dc:title>LLP Powerpoint Templat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89181033</vt:lpwstr>
  </property>
</Properties>
</file>